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ED4-9B7F-45CB-AA85-279A4922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E2D-0E2F-414D-94C2-769570F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C8D-F8E9-414F-9A67-3D2D0986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A4F-647D-4993-ADC5-B9F58D90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905-BD74-4A21-BF04-9217245C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B1A-18EC-4A06-91A1-416B030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516-52CB-42DB-A03A-EC61012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B20-29C4-4344-BF3F-A60BF16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8C4-A8B1-47B4-8395-2067C83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900-AFF4-4A90-8F0F-C61AE68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731-3555-4716-8080-3408A057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5D0-7B27-49A6-BEB2-056CEEB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EB8-121D-4791-95A9-2CCA03AE3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genda Nov.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utline map Middle East"/>
          <p:cNvPicPr/>
          <p:nvPr/>
        </p:nvPicPr>
        <p:blipFill>
          <a:blip r:embed="rId1"/>
          <a:stretch/>
        </p:blipFill>
        <p:spPr>
          <a:xfrm>
            <a:off x="1895400" y="1219320"/>
            <a:ext cx="724860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0" y="1066680"/>
            <a:ext cx="1905120" cy="588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cus 11-11-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ame the Coun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at is the small island country located in the Persian Gulf call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0866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5627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0292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5720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2860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Afgan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2514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28600" y="28954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U.A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286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Q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286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22"/>
          <p:cNvCxnSpPr/>
          <p:nvPr/>
        </p:nvCxnSpPr>
        <p:spPr>
          <a:xfrm flipV="1">
            <a:off x="5256720" y="4799880"/>
            <a:ext cx="15300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24"/>
          <p:cNvCxnSpPr/>
          <p:nvPr/>
        </p:nvCxnSpPr>
        <p:spPr>
          <a:xfrm flipV="1">
            <a:off x="4799520" y="4141440"/>
            <a:ext cx="91080" cy="25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TextBox 27"/>
          <p:cNvSpPr/>
          <p:nvPr/>
        </p:nvSpPr>
        <p:spPr>
          <a:xfrm>
            <a:off x="22860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962520" y="228600"/>
            <a:ext cx="304776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out a blue or black pen for the Map te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609480" y="117360"/>
            <a:ext cx="81536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Keep RED privacy tents up until All have turned in their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When you are finished with the test you must finish and turn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-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d Reading 4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you may do any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Play any games on netbooks, (b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rr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 music stations.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oogl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Read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olor the geo-desig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ing sheets on the front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lovepics.co.cc/data/2011-05-18/animated-gif.jpg"/>
          <p:cNvPicPr/>
          <p:nvPr/>
        </p:nvPicPr>
        <p:blipFill>
          <a:blip r:embed="rId2"/>
          <a:stretch/>
        </p:blipFill>
        <p:spPr>
          <a:xfrm>
            <a:off x="5562720" y="4267080"/>
            <a:ext cx="1885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3:02:53Z</dcterms:created>
  <dc:creator>poweruser</dc:creator>
  <dc:description/>
  <dc:language>en-US</dc:language>
  <cp:lastModifiedBy>poweruser</cp:lastModifiedBy>
  <dcterms:modified xsi:type="dcterms:W3CDTF">2011-11-14T13:48:16Z</dcterms:modified>
  <cp:revision>7</cp:revision>
  <dc:subject/>
  <dc:title>Slide 1</dc:title>
</cp:coreProperties>
</file>